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DB2-8B3C-4878-97E1-906FC304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93C-A4C7-499A-BA34-734CB6C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55D-F740-49FF-97AB-015E4E8E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25E-53E2-4614-AA1C-C6A1154C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61F-F76D-4BE6-9E58-2EBB24A4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FF2-24C9-4129-873D-5105AC7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DA6-2620-4EFA-8BC1-1091BBDB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DD3-3875-4A6B-83A7-F7674C6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5F6-9CE6-483D-AF7C-52DC4BC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F4F-61A9-4CBB-83F7-30177315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838-3BDF-4F35-B448-4B1764C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540-78EE-4E68-8A6B-C037031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0B8-4B9A-4B7C-A3F3-71D53001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www.google.com.au/imgres?imgurl=http://schools.hwcdsb.ca/site_data/44/Image/greenthumb.gif&amp;imgrefurl=http://schools.hwcdsb.ca/page/stmichea/1739/Eco-School---Our-Green-Thumb-Club.html&amp;usg=__YqDAE6lPmu61IDyMyParbjhM2ew=&amp;h=406&amp;w=358&amp;sz=14&amp;hl=en&amp;start=3&amp;zoom=1&amp;um=1&amp;itbs=1&amp;tbnid=VvZyXHVyRB4UxM:&amp;tbnh=124&amp;tbnw=109&amp;prev=/images%3Fq%3Dgreen%2Bthumb%2Baward%2Bschool%26um%3D1%26hl%3Den%26rls%3Dcom.microsoft:en-us:IE-SearchBox%26rlz%3D1I7GGLJ_en%26tbs%3Disch:1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ww.google.com.au/imgres?imgurl=http://www.dreamstime.com/cartoon-chef-eps-thumb5209003.jpg&amp;imgrefurl=http://www.dreamstime.com/stock-photos-cartoon-chef-eps-image5209003&amp;usg=__7qEBt5VhwMgO7glqJWs26INgs30=&amp;h=308&amp;w=300&amp;sz=35&amp;hl=en&amp;start=48&amp;zoom=1&amp;um=1&amp;itbs=1&amp;tbnid=860gEzwdvOxSTM:&amp;tbnh=117&amp;tbnw=114&amp;prev=/images%3Fq%3Dchef%26start%3D40%26um%3D1%26hl%3Den%26sa%3DN%26rls%3Dcom.microsoft:en-us:IE-SearchBox%26rlz%3D1I7GGLJ_en%26ndsp%3D20%26tbs%3Disch:1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228600"/>
            <a:ext cx="2438640" cy="3047760"/>
            <a:chOff x="380880" y="228600"/>
            <a:chExt cx="2438640" cy="3047760"/>
          </a:xfrm>
        </p:grpSpPr>
        <p:sp>
          <p:nvSpPr>
            <p:cNvPr id="42" name=""/>
            <p:cNvSpPr/>
            <p:nvPr/>
          </p:nvSpPr>
          <p:spPr>
            <a:xfrm>
              <a:off x="380880" y="228600"/>
              <a:ext cx="243864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19160" y="914400"/>
              <a:ext cx="10382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609480" y="285480"/>
              <a:ext cx="192420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276720" y="228600"/>
            <a:ext cx="2438280" cy="3047760"/>
            <a:chOff x="3276720" y="228600"/>
            <a:chExt cx="2438280" cy="3047760"/>
          </a:xfrm>
        </p:grpSpPr>
        <p:sp>
          <p:nvSpPr>
            <p:cNvPr id="46" name=""/>
            <p:cNvSpPr/>
            <p:nvPr/>
          </p:nvSpPr>
          <p:spPr>
            <a:xfrm>
              <a:off x="3276720" y="22860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914640" y="91440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3504960" y="28548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72200" y="228600"/>
            <a:ext cx="2438280" cy="3047760"/>
            <a:chOff x="6172200" y="228600"/>
            <a:chExt cx="2438280" cy="3047760"/>
          </a:xfrm>
        </p:grpSpPr>
        <p:sp>
          <p:nvSpPr>
            <p:cNvPr id="50" name=""/>
            <p:cNvSpPr/>
            <p:nvPr/>
          </p:nvSpPr>
          <p:spPr>
            <a:xfrm>
              <a:off x="6172200" y="22860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810120" y="91440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6400440" y="28548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0880" y="3505320"/>
            <a:ext cx="2438640" cy="3047760"/>
            <a:chOff x="380880" y="3505320"/>
            <a:chExt cx="2438640" cy="3047760"/>
          </a:xfrm>
        </p:grpSpPr>
        <p:sp>
          <p:nvSpPr>
            <p:cNvPr id="54" name=""/>
            <p:cNvSpPr/>
            <p:nvPr/>
          </p:nvSpPr>
          <p:spPr>
            <a:xfrm>
              <a:off x="380880" y="3505320"/>
              <a:ext cx="243864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019160" y="4191120"/>
              <a:ext cx="10382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09480" y="3562200"/>
              <a:ext cx="192420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76720" y="3505320"/>
            <a:ext cx="2438280" cy="3047760"/>
            <a:chOff x="3276720" y="3505320"/>
            <a:chExt cx="2438280" cy="3047760"/>
          </a:xfrm>
        </p:grpSpPr>
        <p:sp>
          <p:nvSpPr>
            <p:cNvPr id="58" name=""/>
            <p:cNvSpPr/>
            <p:nvPr/>
          </p:nvSpPr>
          <p:spPr>
            <a:xfrm>
              <a:off x="3276720" y="350532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914640" y="419112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 txBox="1"/>
            <p:nvPr/>
          </p:nvSpPr>
          <p:spPr>
            <a:xfrm>
              <a:off x="3504960" y="356220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72200" y="3505320"/>
            <a:ext cx="2438280" cy="3047760"/>
            <a:chOff x="6172200" y="3505320"/>
            <a:chExt cx="2438280" cy="3047760"/>
          </a:xfrm>
        </p:grpSpPr>
        <p:sp>
          <p:nvSpPr>
            <p:cNvPr id="62" name=""/>
            <p:cNvSpPr/>
            <p:nvPr/>
          </p:nvSpPr>
          <p:spPr>
            <a:xfrm>
              <a:off x="6172200" y="3505320"/>
              <a:ext cx="2438280" cy="3047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810120" y="4191120"/>
              <a:ext cx="103788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6400440" y="3562200"/>
              <a:ext cx="19238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een Thumb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80880" y="228600"/>
            <a:ext cx="2438640" cy="3048120"/>
            <a:chOff x="380880" y="228600"/>
            <a:chExt cx="2438640" cy="3048120"/>
          </a:xfrm>
        </p:grpSpPr>
        <p:sp>
          <p:nvSpPr>
            <p:cNvPr id="66" name=""/>
            <p:cNvSpPr/>
            <p:nvPr/>
          </p:nvSpPr>
          <p:spPr>
            <a:xfrm>
              <a:off x="380880" y="228600"/>
              <a:ext cx="243864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09480" y="285840"/>
              <a:ext cx="192420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6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047600" y="990720"/>
              <a:ext cx="10861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3200400" y="228600"/>
            <a:ext cx="2438280" cy="3048120"/>
            <a:chOff x="3200400" y="228600"/>
            <a:chExt cx="2438280" cy="3048120"/>
          </a:xfrm>
        </p:grpSpPr>
        <p:sp>
          <p:nvSpPr>
            <p:cNvPr id="70" name=""/>
            <p:cNvSpPr/>
            <p:nvPr/>
          </p:nvSpPr>
          <p:spPr>
            <a:xfrm>
              <a:off x="3200400" y="22860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428640" y="28584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2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866760" y="99072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6019920" y="228600"/>
            <a:ext cx="2438280" cy="3048120"/>
            <a:chOff x="6019920" y="228600"/>
            <a:chExt cx="2438280" cy="3048120"/>
          </a:xfrm>
        </p:grpSpPr>
        <p:sp>
          <p:nvSpPr>
            <p:cNvPr id="74" name=""/>
            <p:cNvSpPr/>
            <p:nvPr/>
          </p:nvSpPr>
          <p:spPr>
            <a:xfrm>
              <a:off x="6019920" y="22860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248160" y="28584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6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686280" y="99072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380880" y="3581280"/>
            <a:ext cx="2438640" cy="3048120"/>
            <a:chOff x="380880" y="3581280"/>
            <a:chExt cx="2438640" cy="3048120"/>
          </a:xfrm>
        </p:grpSpPr>
        <p:sp>
          <p:nvSpPr>
            <p:cNvPr id="78" name=""/>
            <p:cNvSpPr/>
            <p:nvPr/>
          </p:nvSpPr>
          <p:spPr>
            <a:xfrm>
              <a:off x="380880" y="3581280"/>
              <a:ext cx="243864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09480" y="3638520"/>
              <a:ext cx="192420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0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1047600" y="4343400"/>
              <a:ext cx="108612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3200400" y="3581280"/>
            <a:ext cx="2438280" cy="3048120"/>
            <a:chOff x="3200400" y="3581280"/>
            <a:chExt cx="2438280" cy="3048120"/>
          </a:xfrm>
        </p:grpSpPr>
        <p:sp>
          <p:nvSpPr>
            <p:cNvPr id="82" name=""/>
            <p:cNvSpPr/>
            <p:nvPr/>
          </p:nvSpPr>
          <p:spPr>
            <a:xfrm>
              <a:off x="3200400" y="358128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428640" y="363852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4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866760" y="434340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6019920" y="3581280"/>
            <a:ext cx="2438280" cy="3048120"/>
            <a:chOff x="6019920" y="3581280"/>
            <a:chExt cx="2438280" cy="3048120"/>
          </a:xfrm>
        </p:grpSpPr>
        <p:sp>
          <p:nvSpPr>
            <p:cNvPr id="86" name=""/>
            <p:cNvSpPr/>
            <p:nvPr/>
          </p:nvSpPr>
          <p:spPr>
            <a:xfrm>
              <a:off x="6019920" y="3581280"/>
              <a:ext cx="2438280" cy="304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248160" y="3638520"/>
              <a:ext cx="192384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ead Chef Aw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1"/>
            <a:stretch/>
          </p:blipFill>
          <p:spPr>
            <a:xfrm>
              <a:off x="6686280" y="4343400"/>
              <a:ext cx="1085760" cy="111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3:50:12Z</dcterms:created>
  <dc:creator>Brook Polidano</dc:creator>
  <dc:description/>
  <dc:language>en-US</dc:language>
  <cp:lastModifiedBy>Brook Polidano</cp:lastModifiedBy>
  <dcterms:modified xsi:type="dcterms:W3CDTF">2010-10-14T00:00:22Z</dcterms:modified>
  <cp:revision>1</cp:revision>
  <dc:subject/>
  <dc:title>Slide 1</dc:title>
</cp:coreProperties>
</file>